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533520" y="685800"/>
            <a:ext cx="8005680" cy="5946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afd00"/>
                </a:solidFill>
                <a:uFillTx/>
                <a:latin typeface="Times New Roman"/>
                <a:cs typeface="Times New Roman (Arabic)"/>
              </a:rPr>
              <a:t>القضايا الدولية وحوكمة الشرك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ينبغى فى نهاية هذا الفصل أن يكون الدارس متفهما للأمور التا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الامور المرتبطة بالتوحيد الدولى للممارسات المحاسب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الاختلافات الرئيسية بين الممارسات المحاسبية فى الدول المختلف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أسلوب عمل كل من مجلس المعايير المحاسبية بالولايات المتحدة الامريكية ومجلس معايير المحاسبة بالمملكة المتحد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الحاجة الى التنظيم الدولى لحوكمة الشرك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228600" y="685800"/>
            <a:ext cx="8686800" cy="5456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وجهة نظر لجنة معايير المحاسبة الدولية فى الإطار الفكري مقارنة بوجهة نظر مجلس معايير المحاسبة الأمريكي</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قام مجلس معايير المحاسبة الأمريكي بتطوير الإطار الفكري لتحقيق ما يل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رشاد الهيئة المسئولة عن وضع المعايير</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قديم إطار مرجعي لحل المسائل المحاسبية في غياب معيار محدد منشور.</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حديد حدود للحكم الشخصي في إعداد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زيادة فهم مستخدمي القوائم المالية وثقتهم في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حسين قابلية القوائم المالية للمقارن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ما سبق يتبين تشابه وجهة نظر لجنة معايير المحاسبة الدولية مع وجهة نظر مجلس معايير المحاسبة الأمريك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304920" y="380880"/>
            <a:ext cx="8610480" cy="6814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afd00"/>
                </a:solidFill>
                <a:latin typeface="Univers 45 Light"/>
                <a:cs typeface="Times New Roman (Arabic)"/>
              </a:rPr>
              <a:t>تأثير لجنة معايير المحاسبة الدولية على الممارسات المحاسبية فى المملكة المتحدة</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يدعم مجلس معايير المحاسبة بالمملكة المتحدة لجنة معايير المحاسبة الدولية في أهدافها نحو توحيد التقارير المالية الدولية حيث تم صياغة معيار التقرير المالي بالأخذ في الاعتبار التطورات الدولية ومن ثم فإن الالتزام بمعيار التقرير المالي يضمن بشكل مباشر الالتزام بمعيار المحاسبة الدولي المناظر.</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إن أحد أهم الطرق التي أثرت بها أعمال معايير المحاسبة الدولية على الممارسات في المملكة المتحدة كان في مجال الإطار الفكري، حيث أن قائمة المبادئ لمجلس معايير المحاسبة البريطاني تعتمد بشكل أساسي على إطار إعداد وعرض القوائم المالية الخاص بلجنة معايير المحاسبة الدولية.</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تم إصدار معيار تقرير مالي بريطاني عن "ربح السهم" عام </a:t>
            </a:r>
            <a:r>
              <a:rPr b="0" lang="ar-SA" sz="2100" spc="-1" strike="noStrike">
                <a:solidFill>
                  <a:srgbClr val="fafd00"/>
                </a:solidFill>
                <a:latin typeface="Univers 45 Light"/>
                <a:ea typeface="Times New Roman (Arabic)"/>
              </a:rPr>
              <a:t>1998</a:t>
            </a:r>
            <a:r>
              <a:rPr b="0" lang="ar-SA" sz="2100" spc="-1" strike="noStrike">
                <a:solidFill>
                  <a:srgbClr val="fafd00"/>
                </a:solidFill>
                <a:latin typeface="Univers 45 Light"/>
                <a:ea typeface="Times New Roman (Arabic)"/>
              </a:rPr>
              <a:t> يتفق بصفة عامة مع المعيار المحاسبي الدولي رقم </a:t>
            </a:r>
            <a:r>
              <a:rPr b="0" lang="ar-SA" sz="2100" spc="-1" strike="noStrike">
                <a:solidFill>
                  <a:srgbClr val="fafd00"/>
                </a:solidFill>
                <a:latin typeface="Univers 45 Light"/>
                <a:ea typeface="Times New Roman (Arabic)"/>
              </a:rPr>
              <a:t>33</a:t>
            </a:r>
            <a:r>
              <a:rPr b="0" lang="ar-SA" sz="2100" spc="-1" strike="noStrike">
                <a:solidFill>
                  <a:srgbClr val="fafd00"/>
                </a:solidFill>
                <a:latin typeface="Univers 45 Light"/>
                <a:ea typeface="Times New Roman (Arabic)"/>
              </a:rPr>
              <a:t> بشان "ربح السهم"</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عام </a:t>
            </a:r>
            <a:r>
              <a:rPr b="0" lang="ar-SA" sz="2100" spc="-1" strike="noStrike">
                <a:solidFill>
                  <a:srgbClr val="fafd00"/>
                </a:solidFill>
                <a:latin typeface="Univers 45 Light"/>
                <a:ea typeface="Times New Roman (Arabic)"/>
              </a:rPr>
              <a:t>1996</a:t>
            </a:r>
            <a:r>
              <a:rPr b="0" lang="ar-SA" sz="2100" spc="-1" strike="noStrike">
                <a:solidFill>
                  <a:srgbClr val="fafd00"/>
                </a:solidFill>
                <a:latin typeface="Univers 45 Light"/>
                <a:ea typeface="Times New Roman (Arabic)"/>
              </a:rPr>
              <a:t> اشترك مجلس معايير المحاسبة البريطاني في مشروع مشترك مع لجنة معايير المحاسبة الدولية بشأن موضوع المخصصات والالتزامات العرضية. كما شملت المشروعات المشتركة موضوعات تخص التأجير التمويلى والمخصصات والأدوات المالية والتقرير عن الأداء المالي.</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228600" y="1066680"/>
            <a:ext cx="8534520" cy="4451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مشاكل الح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وجد ضغوط متزايدة على معايير المحاسبة في المملكة المتحدة لتعكس الممارسات الدولية، ويوجد حاليا جدلا بشأن تحديد المدى الذي يجب أن تتأثر به الممارسات المحاسبية في المملكة المتحدة بلجنة معايير المحاسبة الدولية حيث أصبحت قضيتي الضرائب المؤجلة والمحاسبة عن تكاليف المعاشات هي القضايا الجدلية بصفة خاص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وجد ثلاث اختيارات متاحة لمجلس معايير المحاسبة البريطاني، الأول هو تبنى معايير المحاسبة الدولية بالكامل والثاني هو رفض معايير المحاسبة ووضع معايير بريطانية مستقلة والثالث هو تبنى معايير المحاسبة الدولية مع بعض الاستثناءات.</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04920" y="762120"/>
            <a:ext cx="8458200" cy="3780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Times New Roman"/>
                <a:cs typeface="Times New Roman (Arabic)"/>
              </a:rPr>
              <a:t>تأثير مجلس معايير المحاسبة البريطاني</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باعتباره ممثلا في لجنة معايير المحاسبة الدولية فإنه يكون قادرا على إيضاح وجهة نظر مهنة المحاسبة فى المملكة المتحدة وضمان وصولها إلى لجنة معايير المحاسبة الدو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مشاركة في المشروعات المشتركة لوضع معايير المحاسبة الدولية حيث كان له دور هام في مقترحات معالجة شهرة المحل والأصول غير الملموسة وكان رائدا في استخدام قائمة المكاسب والخسائر المعترف ب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04920" y="533520"/>
            <a:ext cx="8458200" cy="612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حوكمة الشركات</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عرف مصطلح حوكمة الشركات بأنة النظام الذى يتم بواسطته توجيه ورقابة الشركات، وقد تركز مفهوم الحوكمة فى الغرب حول تشكيل ومسئوليات مجلس الادارة بينما كان من الناحية الدولية هو تحسين ظروف العمل والمعايير البيئية فى مكان العمل والحد من الفساد وتدعيم حقوق المستهلكين.</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فى إطار فشل مجموعة من الشركات العملاقة خلال السنوات الأخيرة والذى كان سببه الرئيسي الغش على نطاق واسع من قبل المديرين فقد اهتزت الثقة العامة فى التقارير المالية وعمليات المراجعة حيث اعتقد كثير من الأفراد ان مديرو الشركات يرون معايير المحاسبة على انها مجموعة من القواعد التى يجب التحايل عليها حيث لم يكن هناك إطار واضح يضمن أن المديرين قد راجعوا نظم الرقابة الداخلية كما أنه كان هناك نقص ملموس للمحاسبة عن مكافآت المديرين.</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533520"/>
            <a:ext cx="8610480" cy="6462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بعض الأفكار التي تعرضت لعملية حوكمة الشركات</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ضوية مجلس الإدارة مع التقسيم الفعال للمسئوليات (المديرين التنفيذيين وغير التنفيذيين).</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ستقلال مجلس الإدارة (عدم وجود روابط مالية مع الشركة باستثناء الأتعاب والأسهم المملوك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كوين لجان للمكافآت ويجب موافقة حملة الأسهم على عقود الخدمة التي تمتد لأكثر من ثلاث سنوات.</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نشاء لجان المراجعة (المديرين غير التنفيذيين</a:t>
            </a:r>
            <a:r>
              <a:rPr b="0" lang="ar-EG" sz="2200" spc="-1" strike="noStrike">
                <a:solidFill>
                  <a:srgbClr val="fafd00"/>
                </a:solidFill>
                <a:latin typeface="Univers 45 Light"/>
                <a:ea typeface="Times New Roman (Arabic)"/>
              </a:rPr>
              <a:t>) </a:t>
            </a:r>
            <a:r>
              <a:rPr b="0" lang="ar-SA" sz="2200" spc="-1" strike="noStrike">
                <a:solidFill>
                  <a:srgbClr val="fafd00"/>
                </a:solidFill>
                <a:latin typeface="Univers 45 Light"/>
                <a:cs typeface="Times New Roman (Arabic)"/>
              </a:rPr>
              <a:t>وتحديد أهدافها ودورها وعملها كقناة اتصال بين المراجعين الخارجيين والشرك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عايير للتقارير والإفصاح عن مكافآت المديرين وأنظمة الرقابة الداخ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صدار إرشادات ومعايير عن كيفية التعامل مع عمليات الغش والفساد وكيفية حماية حقوق المستهلكين.</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457200" y="533520"/>
            <a:ext cx="8153280" cy="5791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التنسيق والتوحيد الدولي للممار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زايا التنسيق والتوحيد الدولي للممار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بالنسبة للشركات العالمية متعددة الجنسيات</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سهولة الحصول على التمويل من الجهات الدولية وأسواق المال الدولية باعتبار أن تلك الجهات والأسواق ستفهم المعلومات المالية المقدمة بشكل أكثر سهولة مع إمكانية إجراء المقارنات بين الشركات بغض النظر عن جنسيت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حسين الرقابة الإدارية للشركات التي تعمل في عدة دول نتيجة اتساق الممار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زيادة الكفاءة المحاسبية وفعاليتها فى الشركات</a:t>
            </a:r>
            <a:r>
              <a:rPr b="0" lang="ar-EG"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533520" y="1219320"/>
            <a:ext cx="8229600" cy="4786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بالنسبة للمستثمرين</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سهولة اتخاذ القرارات الاقتصادية نتيجة فعالية المقارنة بين البيانات المالية للشركات فى ظل توحيد وتنسيق السياسات المحاسيبة بين الشركات رغ</a:t>
            </a:r>
            <a:r>
              <a:rPr b="0" lang="ar-EG" sz="2200" spc="-1" strike="noStrike">
                <a:solidFill>
                  <a:srgbClr val="fafd00"/>
                </a:solidFill>
                <a:latin typeface="Univers 45 Light"/>
                <a:cs typeface="Times New Roman (Arabic)"/>
              </a:rPr>
              <a:t>م</a:t>
            </a:r>
            <a:r>
              <a:rPr b="0" lang="ar-SA" sz="2200" spc="-1" strike="noStrike">
                <a:solidFill>
                  <a:srgbClr val="fafd00"/>
                </a:solidFill>
                <a:latin typeface="Univers 45 Light"/>
                <a:ea typeface="Times New Roman (Arabic)"/>
              </a:rPr>
              <a:t> اختلاف جنسيت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بالنسبة للتجمعات الاقتصادية الدو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زيادة فعالية وكفاءة عمل التجمعات الاقتصادية الدولية مثل الاتحاد الاوروبى عند توافر تنسيق وتوحيد دولى للممارسات المحاسبية مما يسهل عمليات الاستثمار والتجارة عبر الحدود.</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04920" y="457200"/>
            <a:ext cx="8381880" cy="5791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الصعوبات والتى تواجه التوحيد والتنسيق الدولى للممار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ن المعروف انه توجد مجموعة من العوامل التى تؤثر فى إعداد وتطوير الممارسات المحاسبية، وهده العوامل قد تكون مختلفة بين دولة وأخرى أو تكون أكثر تأثيرا فى دولة ما بالمقارنة بدولة أخرى.</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نظم القانون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لم يكن هناك إطار قانونى واضح فى الدول الاوروبية بشأن السياسات المحاسبية وقد أخذت المحاسبة على عاتقها مسئولية وضع السيا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ثقاف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قد تؤدى الفروق الثقافية إلى اختلاف أهداف التقارير المالية ومن ثم اختلاف مدى الحاجة الى بعض الممارسات المحاسبية فى بعض الدول الاخرى أو عند التعرض لطرق معالجة بعض المعاملات المال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04920" y="1371600"/>
            <a:ext cx="8534160" cy="5121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جماعات المستخدمين للبيانات المالية</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وجود العديد من المستخدمين وكذا اختلاف اهتماماتهم قد يؤدى الى عرض المعلومات المالية بطرق بديلة، فعلى سبيل المثال قد تكون السلطات الضريبية فى بعض الدول هى جماعة المستخدمين الرئيسية الامر الذى يؤدى الى أن تكون البيانات المالية متحيزة لاحتياجاتهم ومن ثم تحميل المصروفات المسموح بها ضريبيا فقط.</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هيئات المحاسبية المهنية</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ادة ما يكون للهيئات المحاسبية المهنية تأثير مختلف من دولة الى أخرى وبالتالى عندما يكون هناك نظام قانونى محدد يحكم الممارسات المحاسبية يكون تأثير مهنة المحاسبة ضعيفا.</a:t>
            </a:r>
            <a:r>
              <a:rPr b="1" lang="ar-SA"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04920" y="380880"/>
            <a:ext cx="8534160" cy="6174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afd00"/>
                </a:solidFill>
                <a:latin typeface="Times New Roman"/>
                <a:cs typeface="Times New Roman (Arabic)"/>
              </a:rPr>
              <a:t>الهيئات الدولية الأخرى</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afd00"/>
                </a:solidFill>
                <a:latin typeface="Univers 45 Light"/>
                <a:cs typeface="Times New Roman (Arabic)"/>
              </a:rPr>
              <a:t>الاتحاد الدولي للمحاسبين </a:t>
            </a:r>
            <a:r>
              <a:rPr b="1" lang="ar-EG" sz="2100" spc="-1" strike="noStrike">
                <a:solidFill>
                  <a:srgbClr val="fafd00"/>
                </a:solidFill>
                <a:latin typeface="Univers 45 Light"/>
                <a:ea typeface="Times New Roman (Arabic)"/>
              </a:rPr>
              <a:t>(</a:t>
            </a:r>
            <a:r>
              <a:rPr b="1" lang="en-US" sz="2100" spc="-1" strike="noStrike">
                <a:solidFill>
                  <a:srgbClr val="fafd00"/>
                </a:solidFill>
                <a:latin typeface="Univers 45 Light"/>
              </a:rPr>
              <a:t>IFAC</a:t>
            </a:r>
            <a:r>
              <a:rPr b="1" lang="ar-SA" sz="2100" spc="-1" strike="noStrike">
                <a:solidFill>
                  <a:srgbClr val="fafd00"/>
                </a:solidFill>
                <a:latin typeface="Univers 45 Light"/>
                <a:ea typeface="Times New Roman (Arabic)"/>
              </a:rPr>
              <a:t>)</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هذا الاتحاد لا يضع معايير محاسبية ولكن لديه اللجان التى تلعب دورا فى التنسيق بين الدول المختلفة ومنها لجنة ممارسات المراجعة الدولية (</a:t>
            </a:r>
            <a:r>
              <a:rPr b="0" lang="en-US" sz="2100" spc="-1" strike="noStrike">
                <a:solidFill>
                  <a:srgbClr val="fafd00"/>
                </a:solidFill>
                <a:latin typeface="Univers 45 Light"/>
              </a:rPr>
              <a:t>IAPC</a:t>
            </a:r>
            <a:r>
              <a:rPr b="0" lang="ar-SA" sz="2100" spc="-1" strike="noStrike">
                <a:solidFill>
                  <a:srgbClr val="fafd00"/>
                </a:solidFill>
                <a:latin typeface="Univers 45 Light"/>
                <a:ea typeface="Times New Roman (Arabic)"/>
              </a:rPr>
              <a:t>) وهدفها إعداد معايير المراجعة الدولية.</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afd00"/>
                </a:solidFill>
                <a:latin typeface="Univers 45 Light"/>
                <a:cs typeface="Times New Roman (Arabic)"/>
              </a:rPr>
              <a:t>منظمة التعاون الاقتصادي والتنمية (</a:t>
            </a:r>
            <a:r>
              <a:rPr b="1" lang="en-US" sz="2100" spc="-1" strike="noStrike">
                <a:solidFill>
                  <a:srgbClr val="fafd00"/>
                </a:solidFill>
                <a:latin typeface="Univers 45 Light"/>
              </a:rPr>
              <a:t>OECD</a:t>
            </a:r>
            <a:r>
              <a:rPr b="1" lang="ar-SA" sz="2100" spc="-1" strike="noStrike">
                <a:solidFill>
                  <a:srgbClr val="fafd00"/>
                </a:solidFill>
                <a:latin typeface="Univers 45 Light"/>
                <a:ea typeface="Times New Roman (Arabic)"/>
              </a:rPr>
              <a:t>)</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تتكون عضوية تلك المنظمة من </a:t>
            </a:r>
            <a:r>
              <a:rPr b="0" lang="ar-SA" sz="2100" spc="-1" strike="noStrike">
                <a:solidFill>
                  <a:srgbClr val="fafd00"/>
                </a:solidFill>
                <a:latin typeface="Univers 45 Light"/>
                <a:ea typeface="Times New Roman (Arabic)"/>
              </a:rPr>
              <a:t>29</a:t>
            </a:r>
            <a:r>
              <a:rPr b="0" lang="ar-SA" sz="2100" spc="-1" strike="noStrike">
                <a:solidFill>
                  <a:srgbClr val="fafd00"/>
                </a:solidFill>
                <a:latin typeface="Univers 45 Light"/>
                <a:ea typeface="Times New Roman (Arabic)"/>
              </a:rPr>
              <a:t> من أكثر الدول تقدما ويوجد بها لجنة لوضع الارشادات عن الافصاح عن المعلومات فى الشركات متعددة الجنسيات كما توجد لديها مجموعة عمل لدعم جهود لجنة معايير المحاسبة الدولية</a:t>
            </a:r>
            <a:r>
              <a:rPr b="0" lang="ar-EG" sz="2100" spc="-1" strike="noStrike">
                <a:solidFill>
                  <a:srgbClr val="fafd00"/>
                </a:solidFill>
                <a:latin typeface="Univers 45 Light"/>
                <a:ea typeface="Times New Roman (Arabic)"/>
              </a:rPr>
              <a:t>.</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afd00"/>
                </a:solidFill>
                <a:latin typeface="Univers 45 Light"/>
                <a:cs typeface="Times New Roman (Arabic)"/>
              </a:rPr>
              <a:t>الامم المتحدة (</a:t>
            </a:r>
            <a:r>
              <a:rPr b="1" lang="en-US" sz="2100" spc="-1" strike="noStrike">
                <a:solidFill>
                  <a:srgbClr val="fafd00"/>
                </a:solidFill>
                <a:latin typeface="Univers 45 Light"/>
              </a:rPr>
              <a:t>UN</a:t>
            </a:r>
            <a:r>
              <a:rPr b="1" lang="ar-SA" sz="2100" spc="-1" strike="noStrike">
                <a:solidFill>
                  <a:srgbClr val="fafd00"/>
                </a:solidFill>
                <a:latin typeface="Univers 45 Light"/>
                <a:ea typeface="Times New Roman (Arabic)"/>
              </a:rPr>
              <a:t>)</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fafd00"/>
                </a:solidFill>
                <a:latin typeface="Univers 45 Light"/>
                <a:ea typeface="Times New Roman (Arabic)"/>
              </a:rPr>
              <a:t> </a:t>
            </a:r>
            <a:endParaRPr b="0" lang="en-US" sz="21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afd00"/>
                </a:solidFill>
                <a:latin typeface="Univers 45 Light"/>
                <a:cs typeface="Times New Roman (Arabic)"/>
              </a:rPr>
              <a:t>يوجد لدى الامم المتحدة لجنة عن الشركات التى تعد تقارير دولية تقوم بجمع المعلومات عن انشطة وتقارير الشركات متعددة الجنسيات وتهدف الى توفير وتحسين إمكانية المعلومات التى يتم الافصاح عنها بواسطة تلك الشركات. </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304920" y="609480"/>
            <a:ext cx="8534160" cy="6126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التطورات المتعلقة بتوحيد والتنسيق فى الممار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اتحاد الأوروبي</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أعلن الاتحاد الأوروبي عام </a:t>
            </a:r>
            <a:r>
              <a:rPr b="0" lang="ar-SA" sz="2200" spc="-1" strike="noStrike">
                <a:solidFill>
                  <a:srgbClr val="fafd00"/>
                </a:solidFill>
                <a:latin typeface="Univers 45 Light"/>
                <a:ea typeface="Times New Roman (Arabic)"/>
              </a:rPr>
              <a:t>1995</a:t>
            </a:r>
            <a:r>
              <a:rPr b="0" lang="ar-SA" sz="2200" spc="-1" strike="noStrike">
                <a:solidFill>
                  <a:srgbClr val="fafd00"/>
                </a:solidFill>
                <a:latin typeface="Univers 45 Light"/>
                <a:ea typeface="Times New Roman (Arabic)"/>
              </a:rPr>
              <a:t> خططا لإعداد معايير محاسبية خاصة تستخدم في أوروبا ونظرا للأهمية المتزايدة لمعايير المحاسبة الدولية فقد غير الاتحاد الأوروبي موقفه في عام </a:t>
            </a:r>
            <a:r>
              <a:rPr b="0" lang="ar-SA" sz="2200" spc="-1" strike="noStrike">
                <a:solidFill>
                  <a:srgbClr val="fafd00"/>
                </a:solidFill>
                <a:latin typeface="Univers 45 Light"/>
                <a:ea typeface="Times New Roman (Arabic)"/>
              </a:rPr>
              <a:t>2000</a:t>
            </a:r>
            <a:r>
              <a:rPr b="0" lang="ar-SA" sz="2200" spc="-1" strike="noStrike">
                <a:solidFill>
                  <a:srgbClr val="fafd00"/>
                </a:solidFill>
                <a:latin typeface="Univers 45 Light"/>
                <a:ea typeface="Times New Roman (Arabic)"/>
              </a:rPr>
              <a:t> وأعلن انه اعتبارا من عام </a:t>
            </a:r>
            <a:r>
              <a:rPr b="0" lang="ar-SA" sz="2200" spc="-1" strike="noStrike">
                <a:solidFill>
                  <a:srgbClr val="fafd00"/>
                </a:solidFill>
                <a:latin typeface="Univers 45 Light"/>
                <a:ea typeface="Times New Roman (Arabic)"/>
              </a:rPr>
              <a:t>2005</a:t>
            </a:r>
            <a:r>
              <a:rPr b="0" lang="ar-SA" sz="2200" spc="-1" strike="noStrike">
                <a:solidFill>
                  <a:srgbClr val="fafd00"/>
                </a:solidFill>
                <a:latin typeface="Univers 45 Light"/>
                <a:ea typeface="Times New Roman (Arabic)"/>
              </a:rPr>
              <a:t> ستستخدم كل الشركات داخل الاتحاد الأوروبي معايير المحاسبة الدولية للتسجيل في البورصات الأوروبية مع استمرار الإرشادات المحاسبية للاتحاد الأوروبي بالنسبة للشركات غير المسجلة بالبورص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لجنة معايير المحاسبة الدولية والمنظمة الدولية للجان الأوراق المالية</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م جعل معايير المحاسبة الدولية ملزمة في مايو </a:t>
            </a:r>
            <a:r>
              <a:rPr b="0" lang="ar-SA" sz="2200" spc="-1" strike="noStrike">
                <a:solidFill>
                  <a:srgbClr val="fafd00"/>
                </a:solidFill>
                <a:latin typeface="Univers 45 Light"/>
                <a:ea typeface="Times New Roman (Arabic)"/>
              </a:rPr>
              <a:t>2000</a:t>
            </a:r>
            <a:r>
              <a:rPr b="0" lang="ar-SA" sz="2200" spc="-1" strike="noStrike">
                <a:solidFill>
                  <a:srgbClr val="fafd00"/>
                </a:solidFill>
                <a:latin typeface="Univers 45 Light"/>
                <a:ea typeface="Times New Roman (Arabic)"/>
              </a:rPr>
              <a:t> وقد ترتب على ذلك زيادة مصداقية وموقف لجنة معايير المحاسبة الدولية وأعمال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80880" y="533520"/>
            <a:ext cx="8458200" cy="5791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تأثير المبادئ المحاسبية المقبولة المستخدمة في الولايات المتحدة الأمريكية</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نظرا لأن المبادئ المحاسبية المقبولة في الولايات المتحدة وصفية للغاية ومتحفظة جدا فإن ذلك قد يؤدى الى أعباء إضافية جوهرية وبناء على إلزام المنظمة الدولية للجان الأوراق المالية أصبح من المقبول تسجيل البيانات المالية المعدة طبقا لمعايير المحاسبة الدولية لدى البورصات الأمريكية اعتبارا من عام </a:t>
            </a:r>
            <a:r>
              <a:rPr b="0" lang="ar-SA" sz="2200" spc="-1" strike="noStrike">
                <a:solidFill>
                  <a:srgbClr val="fafd00"/>
                </a:solidFill>
                <a:latin typeface="Univers 45 Light"/>
                <a:ea typeface="Times New Roman (Arabic)"/>
              </a:rPr>
              <a:t>2005</a:t>
            </a:r>
            <a:r>
              <a:rPr b="0"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خلاص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ن الاتجاه يتزايد نحو التنسيق والتوحيد الدولي للممارسات المحاسبية وسوف يصبح من الصعب بشكل متزايد بالنسبة لواضعي معايير المحاسبة المحلية أن يجدوا تبريرا لاستخدام المعايير المحلية التي تختلف عن معايير المحاسبة الدول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228600" y="990720"/>
            <a:ext cx="8686800" cy="512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اختلافات الرئيسية بين ممارسات المحاسبة في الدول المختلف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أعمال مجلس معايير المحاسبة المالية الأمريكي  (</a:t>
            </a:r>
            <a:r>
              <a:rPr b="0" lang="en-US" sz="2200" spc="-1" strike="noStrike">
                <a:solidFill>
                  <a:srgbClr val="fafd00"/>
                </a:solidFill>
                <a:latin typeface="Univers 45 Light"/>
              </a:rPr>
              <a:t>FASB</a:t>
            </a:r>
            <a:r>
              <a:rPr b="0" lang="ar-SA" sz="2200" spc="-1" strike="noStrike">
                <a:solidFill>
                  <a:srgbClr val="fafd00"/>
                </a:solidFill>
                <a:latin typeface="Univers 45 Light"/>
                <a:ea typeface="Times New Roman (Arabic)"/>
              </a:rPr>
              <a:t>) في مجال الإطار الفكر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نذ عام </a:t>
            </a:r>
            <a:r>
              <a:rPr b="0" lang="ar-SA" sz="2200" spc="-1" strike="noStrike">
                <a:solidFill>
                  <a:srgbClr val="fafd00"/>
                </a:solidFill>
                <a:latin typeface="Univers 45 Light"/>
                <a:ea typeface="Times New Roman (Arabic)"/>
              </a:rPr>
              <a:t>1973</a:t>
            </a:r>
            <a:r>
              <a:rPr b="0" lang="ar-SA" sz="2200" spc="-1" strike="noStrike">
                <a:solidFill>
                  <a:srgbClr val="fafd00"/>
                </a:solidFill>
                <a:latin typeface="Univers 45 Light"/>
                <a:ea typeface="Times New Roman (Arabic)"/>
              </a:rPr>
              <a:t> أعد المجلس العديد من المذكرات مما أدى شفى النهاية إلى نشر </a:t>
            </a:r>
            <a:r>
              <a:rPr b="0" lang="ar-SA" sz="2200" spc="-1" strike="noStrike">
                <a:solidFill>
                  <a:srgbClr val="fafd00"/>
                </a:solidFill>
                <a:latin typeface="Univers 45 Light"/>
                <a:ea typeface="Times New Roman (Arabic)"/>
              </a:rPr>
              <a:t>6</a:t>
            </a:r>
            <a:r>
              <a:rPr b="0" lang="ar-SA" sz="2200" spc="-1" strike="noStrike">
                <a:solidFill>
                  <a:srgbClr val="fafd00"/>
                </a:solidFill>
                <a:latin typeface="Univers 45 Light"/>
                <a:ea typeface="Times New Roman (Arabic)"/>
              </a:rPr>
              <a:t> قوائم لمفاهيم المحاسبة المالية (</a:t>
            </a:r>
            <a:r>
              <a:rPr b="0" lang="en-US" sz="2200" spc="-1" strike="noStrike">
                <a:solidFill>
                  <a:srgbClr val="fafd00"/>
                </a:solidFill>
                <a:latin typeface="Univers 45 Light"/>
              </a:rPr>
              <a:t>SFACs</a:t>
            </a:r>
            <a:r>
              <a:rPr b="0" lang="ar-SA" sz="2200" spc="-1" strike="noStrike">
                <a:solidFill>
                  <a:srgbClr val="fafd00"/>
                </a:solidFill>
                <a:latin typeface="Univers 45 Light"/>
                <a:ea typeface="Times New Roman (Arabic)"/>
              </a:rPr>
              <a:t>) ومن بينها أربعة فقط يمكن مناظرتها بإطار معايير المحاسبة الدو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أهداف التقارير المالية بواسطة منشآت الأعمال(</a:t>
            </a:r>
            <a:r>
              <a:rPr b="0" lang="en-US" sz="2200" spc="-1" strike="noStrike">
                <a:solidFill>
                  <a:srgbClr val="fafd00"/>
                </a:solidFill>
                <a:latin typeface="Univers 45 Light"/>
              </a:rPr>
              <a:t>SFAC 1</a:t>
            </a:r>
            <a:r>
              <a:rPr b="0"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خصائص النوعية للمعلومات المالية(</a:t>
            </a:r>
            <a:r>
              <a:rPr b="0" lang="en-US" sz="2200" spc="-1" strike="noStrike">
                <a:solidFill>
                  <a:srgbClr val="fafd00"/>
                </a:solidFill>
                <a:latin typeface="Univers 45 Light"/>
              </a:rPr>
              <a:t>SFAC 2</a:t>
            </a:r>
            <a:r>
              <a:rPr b="0"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اعتراف والقياس في القوائم المالية لمنشآت الأعمال (</a:t>
            </a:r>
            <a:r>
              <a:rPr b="0" lang="en-US" sz="2200" spc="-1" strike="noStrike">
                <a:solidFill>
                  <a:srgbClr val="fafd00"/>
                </a:solidFill>
                <a:latin typeface="Univers 45 Light"/>
              </a:rPr>
              <a:t>SFAC 5</a:t>
            </a:r>
            <a:r>
              <a:rPr b="0"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ناصر القوائم المالية (</a:t>
            </a:r>
            <a:r>
              <a:rPr b="0" lang="en-US" sz="2200" spc="-1" strike="noStrike">
                <a:solidFill>
                  <a:srgbClr val="fafd00"/>
                </a:solidFill>
                <a:latin typeface="Univers 45 Light"/>
              </a:rPr>
              <a:t>SFAC 6</a:t>
            </a:r>
            <a:r>
              <a:rPr b="0"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13:27Z</dcterms:created>
  <dc:creator>Administrator</dc:creator>
  <dc:description/>
  <dc:language>en-US</dc:language>
  <cp:lastModifiedBy>Administrator</cp:lastModifiedBy>
  <dcterms:modified xsi:type="dcterms:W3CDTF">2005-03-05T22:45:48Z</dcterms:modified>
  <cp:revision>4</cp:revision>
  <dc:subject/>
  <dc:title>PowerPoint Presentation</dc:title>
</cp:coreProperties>
</file>